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0CE701-F227-4F50-B358-7CCD358A9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B2EC1-D276-4BDA-AB0D-9E4ED0CA0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73E4C1F-2C09-44EB-9015-110C1AA3E52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147C452-E1D7-4101-A0ED-C7763E480F1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B7A77B2-5929-4CB1-9F2E-23FEBE6F8869}"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335C1DE-E391-429E-83A0-EA559165BE9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41155E7-EC6A-40A1-981D-2978845C8A6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1E960F3-4A8C-4D05-BA5A-7AD559CEFA4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F5A8B69-E084-4AB6-8E76-76399B6A45A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670682D-D626-479A-A427-FE72B7437F7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6A16673-F541-49AA-8B16-1AB9CE5ED95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EAA5325-D0BE-4575-86ED-106E28F816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A2AF2-0521-41BD-9225-8368986025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AF404D-D006-4BE5-892D-9984904337E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7187F0-10CC-4F4D-9798-C2400D0C28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EC23E2-6C49-4DAD-A24C-BD3B238325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6388918-5739-4D88-8839-DAF1790151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8C15A36-6C5E-4FF8-82C5-53CCAD2702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1B0FCD4-8638-45D9-AE4F-AD6DCD5F593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1123988-59C3-449F-9FE8-0DFC07ABFBF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A091D8C-B468-4174-B248-13AF760444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313A24-36DF-49EC-8B67-F8CF7A7EADD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D42351E-27EE-4D69-9D97-D43EB38B76A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C768F-5BC1-47B9-BDCC-AE84F3E88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A40B37-E220-48E7-AF8C-296EC858DD2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EFFEFAB-5B00-4506-B955-AAAA3D02B0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135E8B-BABB-4E30-9492-3275D1FCE8D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3CCD8A-FDBD-44A7-A3D7-740CADC11BA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DC93D1-D5C4-4201-842B-2ECA6A1E36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EE1954-4E91-4372-B087-F20CD69E939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80FFB9-1330-40DE-9775-6CB9E2D48E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6FBB52-F7B5-4E02-8DC4-212008763D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A12EA1E-5423-423B-B869-DE22A992021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79221A-8980-4877-A8E5-9E5BCC4EDC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5DA37959-FD57-41C2-B231-0C06A144B4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0166E04-9B71-47BA-B977-520FE78D9E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FB20B9E-6210-4CAD-91AF-404C85368AD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5E10598-532A-43B0-8C0C-65BED981B91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73382B0-FE4C-422D-83F2-D6F2C14CF15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9B702AB-FD4D-45CC-800E-D5D60F17DF6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F873E44-01C5-4421-8243-E0D4EB6B53F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995446-4771-4F6D-8EA8-48E4A70577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2969DFB-A328-4D31-88B6-2D7E75ABAF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B5ACB00-6141-4816-BF67-D108827FF0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498A559-DA73-4806-BFAE-02DC412A7E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0BAABA3-6C5A-4774-9904-644296BD4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3CB655-6DC9-47A5-AC96-C8F23B53BB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E5F0226-5128-44B9-B64E-85E10AF6CD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7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EDFCC27-552D-43A8-BA40-4FA56903F2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E896E9-C137-41D3-8EE7-A0C37F77876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8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D6DE4DC-FD56-4487-86A8-6EBFF3A7EA1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DE80006-919D-4DBE-BD92-779BA4F3E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458D23-2FBD-4EC8-B86C-900B3E9273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860927F-8D03-4777-81E6-1393DF578D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FA736E1-C471-4CD3-88BD-67555C466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6885043-2B71-4623-870A-410A92E0A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57F2E9-8F48-4EBA-8042-85F1EEFED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A8A12D-3817-49FF-85C1-5DF08B6B1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11E55A7-8C23-45AF-88CD-3B026A8641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22A7319-68AA-4E31-9D86-18F70325A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7C93C55-2420-47E5-8E76-5C77CBC33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E6559B5-28CE-413C-9E27-3F7FEF682C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B42439D-ACC0-4222-81EC-5AF540D007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057465A-B211-4FCA-88A2-BBA1AD79B2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CFC520-5178-4900-871C-E4E1839B9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DA77605-5A2B-4FCC-8EB7-BD7DEE5182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8DEF34D-7B76-423B-9B5A-BAA0F68615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9046B-ED89-419E-870F-5604AC7D0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1A787FB-B13F-4B6A-822E-DD7C41038E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98734A9-3A29-403C-A604-4DC79A2C5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F6114D2-D8F6-427B-A1E0-6F29AF3F9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B0B3F7-4D90-48BB-BF69-A2B1D062E8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B77935E-9406-4A78-A53E-8EBD8C81A6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92BE7B6-EE11-4B6A-AC20-2A411FF113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6A10452-BA76-451E-A765-68491D77D6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4261148-FFE8-4E97-B04F-6D4AEE5AB6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16623-497E-4BE3-9AF1-4BD1D99CCE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B63B92-0F1A-445E-A351-99514B79B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D6347-110D-415D-B4D1-3E763811A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314CB57-EE57-4410-BC16-8A55F481F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51A989-7816-4AD6-9E3E-0308C13ACA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4739D-EF41-4A58-818E-133E67FB40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6F6B21-2D03-4888-8A20-1B5D51AC9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1AD156-4D59-4289-B93E-B11FD7744E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2046E-DA8A-44AA-817B-60D321836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80E4D-6739-4CE1-A836-048AD26E0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832076-8A19-4CCF-8340-820D8310301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01861E-3319-4687-86BE-1B6CB3C444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9A674F-EA8C-4ED6-8466-32269F7C6C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5ECD7-0F31-4622-95D7-48FD3C0CF6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92FE58-8723-4D7D-97B4-543060AFB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519D44-F380-4C50-8282-DC3E4CECD0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88EBA2-99F3-4F54-9D73-BA9C4FA790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A5F38C-9ECD-40C4-A6CE-98AF216C10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EEE39A-BE6D-4E99-B0C6-0EBF7AC7BD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4997D8-A6D7-4029-8112-8FF010BD15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65BAD-16F9-4E0A-998A-623FD614E6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A6358-F2BC-4024-AAB4-D0B9F67B96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EA00F8-B88C-465B-9C3C-25D998C5E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EE31A3-5B53-4E89-B6EE-48151F7F12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4CEB6-0BFE-4318-9F42-F38958C4C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2974E6-264E-44F0-BF56-C0FA58E0EB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B0D262-3FBC-439A-981F-976E3DFAF1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2DB6F8-B760-4FA3-A02D-F5CF72C703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4F9FF-AB48-4EAA-87E3-5ADA734669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E2E555-09C6-4A49-8DB7-0EF2A77C08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0046C-5D99-4B41-9B17-6EC792626B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436D3-4409-4D2D-B9C5-F52E26E8B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426271-DAEF-468E-8DA2-271D75976C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FACBC-E5CE-4485-9197-C2952FDC1F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A7CE5D-1EDC-4A27-8B0A-B913EFF9C7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34A44-C72A-4F76-84B9-74DBA83A1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8BB6AA-616C-4452-BB6A-33B0E027B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4C5880-4568-416B-8E65-1D1EB810FC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E2C93D-0500-4954-8864-1D9CA810A4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61E85E-3C09-4254-8820-6053DAF23D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0906F7-51F6-4D50-AE46-1893DFD96D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D683B-0529-4344-9CF1-124528D5F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AA2104-9D2A-4B14-8743-775AEA9EF4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E663EB-4D16-42E9-9E70-72E13FEE4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9B9347-044D-4C91-B28E-EF76D85802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F77BD-1CBE-4C28-B344-646CB07FAD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62DB4-247A-4898-BD6B-EFD33487B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CF51B8-AAA7-4AA7-AABC-4321109827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01292F-E3C1-4C72-86B8-0034B2396C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41E943-2E61-4057-AB64-F253442A0C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634F63-171B-412C-B7AB-25A2C876D4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EA4E08-7DE0-4AC7-B402-62E9CDB044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4FBFF59-9B96-49BA-B86E-4D519660699E}"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1DB9A099-A948-4ABD-8E91-AEA889EA301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EE0AEF3-736C-47E4-BC99-5DDCB045628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EDAFBB0-5006-4D7D-A7D4-7048BA32A05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C9058CF-9DD5-4D68-BD59-E52B1DF487C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46D01-3D49-4FB9-B20B-73DDC396B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1C03B51-BE09-4C20-856D-1BEF8B15D32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01C687-B3A9-4420-B63E-D4106E10482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A5DC17-C35D-4946-AEAF-2015652B8199}"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3490B9C-DBD2-471F-A4AA-AF85CC2AF82E}"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821CA03-4756-493D-BC9A-BDC2C45518CF}"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CAFCF14-05E4-40D1-A43D-5E1649F37FA5}"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330A169-398C-4A3C-89CD-CEAC35E98C8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5366DF3F-1675-4EDF-9CDD-F74B7594938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FEDAE330-EB14-41E0-AA27-00C9DC5B68F6}"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B4A6C6C-F5C5-4A53-A433-40ACA0C3DD36}"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E656-33BA-4D2F-8293-075B8A5A1D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520" name=""/>
          <p:cNvGrpSpPr/>
          <p:nvPr/>
        </p:nvGrpSpPr>
        <p:grpSpPr>
          <a:xfrm>
            <a:off x="0" y="0"/>
            <a:ext cx="9159840" cy="6858000"/>
            <a:chOff x="0" y="0"/>
            <a:chExt cx="9159840" cy="6858000"/>
          </a:xfrm>
        </p:grpSpPr>
        <p:sp>
          <p:nvSpPr>
            <p:cNvPr id="52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4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543" name="PlaceHolder 2"/>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544"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545" name="PlaceHolder 4"/>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51617-5F9A-4A32-84D5-9003880BD1A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582" name=""/>
          <p:cNvGrpSpPr/>
          <p:nvPr/>
        </p:nvGrpSpPr>
        <p:grpSpPr>
          <a:xfrm>
            <a:off x="0" y="0"/>
            <a:ext cx="9142560" cy="6856560"/>
            <a:chOff x="0" y="0"/>
            <a:chExt cx="9142560" cy="6856560"/>
          </a:xfrm>
        </p:grpSpPr>
        <p:sp>
          <p:nvSpPr>
            <p:cNvPr id="583"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4" name=""/>
            <p:cNvGrpSpPr/>
            <p:nvPr/>
          </p:nvGrpSpPr>
          <p:grpSpPr>
            <a:xfrm>
              <a:off x="0" y="0"/>
              <a:ext cx="9142560" cy="6856560"/>
              <a:chOff x="0" y="0"/>
              <a:chExt cx="9142560" cy="6856560"/>
            </a:xfrm>
          </p:grpSpPr>
          <p:sp>
            <p:nvSpPr>
              <p:cNvPr id="585"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86"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587"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88"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89"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590"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1"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592"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593"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594"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5"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6"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7"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598"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99"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0"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1"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602"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03"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4"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05"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6"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07"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8"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09"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610" name=""/>
              <p:cNvGrpSpPr/>
              <p:nvPr/>
            </p:nvGrpSpPr>
            <p:grpSpPr>
              <a:xfrm>
                <a:off x="0" y="0"/>
                <a:ext cx="9140760" cy="1658880"/>
                <a:chOff x="0" y="0"/>
                <a:chExt cx="9140760" cy="1658880"/>
              </a:xfrm>
            </p:grpSpPr>
            <p:sp>
              <p:nvSpPr>
                <p:cNvPr id="611"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7"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8"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0"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1"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3"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4"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6" name=""/>
              <p:cNvGrpSpPr/>
              <p:nvPr/>
            </p:nvGrpSpPr>
            <p:grpSpPr>
              <a:xfrm>
                <a:off x="0" y="885960"/>
                <a:ext cx="9140760" cy="772920"/>
                <a:chOff x="0" y="885960"/>
                <a:chExt cx="9140760" cy="772920"/>
              </a:xfrm>
            </p:grpSpPr>
            <p:sp>
              <p:nvSpPr>
                <p:cNvPr id="627"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29" name=""/>
              <p:cNvGrpSpPr/>
              <p:nvPr/>
            </p:nvGrpSpPr>
            <p:grpSpPr>
              <a:xfrm>
                <a:off x="419040" y="1649520"/>
                <a:ext cx="8255160" cy="5207040"/>
                <a:chOff x="419040" y="1649520"/>
                <a:chExt cx="8255160" cy="5207040"/>
              </a:xfrm>
            </p:grpSpPr>
            <p:sp>
              <p:nvSpPr>
                <p:cNvPr id="630"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8"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9"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0"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1"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64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8" name="PlaceHolder 2"/>
          <p:cNvSpPr>
            <a:spLocks noGrp="1"/>
          </p:cNvSpPr>
          <p:nvPr>
            <p:ph type="dt" idx="3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49" name="PlaceHolder 3"/>
          <p:cNvSpPr>
            <a:spLocks noGrp="1"/>
          </p:cNvSpPr>
          <p:nvPr>
            <p:ph type="ftr" idx="3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50" name="PlaceHolder 4"/>
          <p:cNvSpPr>
            <a:spLocks noGrp="1"/>
          </p:cNvSpPr>
          <p:nvPr>
            <p:ph type="sldNum" idx="3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75B7-F0A0-46EB-9F96-34A627B67363}"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51"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688" name=""/>
          <p:cNvGrpSpPr/>
          <p:nvPr/>
        </p:nvGrpSpPr>
        <p:grpSpPr>
          <a:xfrm>
            <a:off x="0" y="0"/>
            <a:ext cx="9142560" cy="6856560"/>
            <a:chOff x="0" y="0"/>
            <a:chExt cx="9142560" cy="6856560"/>
          </a:xfrm>
        </p:grpSpPr>
        <p:sp>
          <p:nvSpPr>
            <p:cNvPr id="68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90" name=""/>
            <p:cNvGrpSpPr/>
            <p:nvPr/>
          </p:nvGrpSpPr>
          <p:grpSpPr>
            <a:xfrm>
              <a:off x="0" y="0"/>
              <a:ext cx="9142560" cy="6856560"/>
              <a:chOff x="0" y="0"/>
              <a:chExt cx="9142560" cy="6856560"/>
            </a:xfrm>
          </p:grpSpPr>
          <p:sp>
            <p:nvSpPr>
              <p:cNvPr id="69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69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69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69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9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69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69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0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0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0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70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70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1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71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716" name=""/>
              <p:cNvGrpSpPr/>
              <p:nvPr/>
            </p:nvGrpSpPr>
            <p:grpSpPr>
              <a:xfrm>
                <a:off x="0" y="0"/>
                <a:ext cx="9140760" cy="1658880"/>
                <a:chOff x="0" y="0"/>
                <a:chExt cx="9140760" cy="1658880"/>
              </a:xfrm>
            </p:grpSpPr>
            <p:sp>
              <p:nvSpPr>
                <p:cNvPr id="71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2" name=""/>
              <p:cNvGrpSpPr/>
              <p:nvPr/>
            </p:nvGrpSpPr>
            <p:grpSpPr>
              <a:xfrm>
                <a:off x="0" y="885960"/>
                <a:ext cx="9140760" cy="772920"/>
                <a:chOff x="0" y="885960"/>
                <a:chExt cx="9140760" cy="772920"/>
              </a:xfrm>
            </p:grpSpPr>
            <p:sp>
              <p:nvSpPr>
                <p:cNvPr id="73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35" name=""/>
              <p:cNvGrpSpPr/>
              <p:nvPr/>
            </p:nvGrpSpPr>
            <p:grpSpPr>
              <a:xfrm>
                <a:off x="419040" y="1649520"/>
                <a:ext cx="8255160" cy="5207040"/>
                <a:chOff x="419040" y="1649520"/>
                <a:chExt cx="8255160" cy="5207040"/>
              </a:xfrm>
            </p:grpSpPr>
            <p:sp>
              <p:nvSpPr>
                <p:cNvPr id="73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4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53"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754" name="PlaceHolder 2"/>
          <p:cNvSpPr>
            <a:spLocks noGrp="1"/>
          </p:cNvSpPr>
          <p:nvPr>
            <p:ph type="dt" idx="3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755" name="PlaceHolder 3"/>
          <p:cNvSpPr>
            <a:spLocks noGrp="1"/>
          </p:cNvSpPr>
          <p:nvPr>
            <p:ph type="ftr" idx="3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756" name="PlaceHolder 4"/>
          <p:cNvSpPr>
            <a:spLocks noGrp="1"/>
          </p:cNvSpPr>
          <p:nvPr>
            <p:ph type="sldNum" idx="3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D4CC-E1C7-45C6-AA29-B08E62A24390}" type="slidenum">
              <a:rPr b="0" lang="en-US"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A5EDE-FE97-4214-8CC0-7D8223B249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dt" idx="7"/>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2" name="PlaceHolder 2"/>
          <p:cNvSpPr>
            <a:spLocks noGrp="1"/>
          </p:cNvSpPr>
          <p:nvPr>
            <p:ph type="sldNum" idx="8"/>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2057-6A5A-4F87-9E7B-D7CC410B9B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123" name=""/>
          <p:cNvGrpSpPr/>
          <p:nvPr/>
        </p:nvGrpSpPr>
        <p:grpSpPr>
          <a:xfrm>
            <a:off x="0" y="0"/>
            <a:ext cx="9140760" cy="6850080"/>
            <a:chOff x="0" y="0"/>
            <a:chExt cx="9140760" cy="6850080"/>
          </a:xfrm>
        </p:grpSpPr>
        <p:grpSp>
          <p:nvGrpSpPr>
            <p:cNvPr id="124" name=""/>
            <p:cNvGrpSpPr/>
            <p:nvPr/>
          </p:nvGrpSpPr>
          <p:grpSpPr>
            <a:xfrm>
              <a:off x="2743200" y="3540240"/>
              <a:ext cx="6392880" cy="3309840"/>
              <a:chOff x="2743200" y="3540240"/>
              <a:chExt cx="6392880" cy="3309840"/>
            </a:xfrm>
          </p:grpSpPr>
          <p:sp>
            <p:nvSpPr>
              <p:cNvPr id="125"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0"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3" name="PlaceHolder 4"/>
          <p:cNvSpPr>
            <a:spLocks noGrp="1"/>
          </p:cNvSpPr>
          <p:nvPr>
            <p:ph type="ftr" idx="9"/>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71" name=""/>
          <p:cNvGrpSpPr/>
          <p:nvPr/>
        </p:nvGrpSpPr>
        <p:grpSpPr>
          <a:xfrm>
            <a:off x="0" y="0"/>
            <a:ext cx="9140760" cy="6850080"/>
            <a:chOff x="0" y="0"/>
            <a:chExt cx="9140760" cy="6850080"/>
          </a:xfrm>
        </p:grpSpPr>
        <p:grpSp>
          <p:nvGrpSpPr>
            <p:cNvPr id="172" name=""/>
            <p:cNvGrpSpPr/>
            <p:nvPr/>
          </p:nvGrpSpPr>
          <p:grpSpPr>
            <a:xfrm>
              <a:off x="2743200" y="3540240"/>
              <a:ext cx="6392880" cy="3309840"/>
              <a:chOff x="2743200" y="3540240"/>
              <a:chExt cx="6392880" cy="3309840"/>
            </a:xfrm>
          </p:grpSpPr>
          <p:sp>
            <p:nvSpPr>
              <p:cNvPr id="17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8"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181" name="PlaceHolder 2"/>
          <p:cNvSpPr>
            <a:spLocks noGrp="1"/>
          </p:cNvSpPr>
          <p:nvPr>
            <p:ph type="dt" idx="10"/>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82" name="PlaceHolder 3"/>
          <p:cNvSpPr>
            <a:spLocks noGrp="1"/>
          </p:cNvSpPr>
          <p:nvPr>
            <p:ph type="ftr" idx="11"/>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83" name="PlaceHolder 4"/>
          <p:cNvSpPr>
            <a:spLocks noGrp="1"/>
          </p:cNvSpPr>
          <p:nvPr>
            <p:ph type="sldNum" idx="12"/>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7C06-27B4-4465-A21E-68F63CAF7F1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20" name=""/>
          <p:cNvGrpSpPr/>
          <p:nvPr/>
        </p:nvGrpSpPr>
        <p:grpSpPr>
          <a:xfrm>
            <a:off x="1440" y="0"/>
            <a:ext cx="9149040" cy="6851520"/>
            <a:chOff x="1440" y="0"/>
            <a:chExt cx="9149040" cy="6851520"/>
          </a:xfrm>
        </p:grpSpPr>
        <p:sp>
          <p:nvSpPr>
            <p:cNvPr id="22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4" name=""/>
            <p:cNvGrpSpPr/>
            <p:nvPr/>
          </p:nvGrpSpPr>
          <p:grpSpPr>
            <a:xfrm>
              <a:off x="457200" y="0"/>
              <a:ext cx="8093160" cy="6851520"/>
              <a:chOff x="457200" y="0"/>
              <a:chExt cx="8093160" cy="6851520"/>
            </a:xfrm>
          </p:grpSpPr>
          <p:sp>
            <p:nvSpPr>
              <p:cNvPr id="22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49" name=""/>
            <p:cNvGrpSpPr/>
            <p:nvPr/>
          </p:nvGrpSpPr>
          <p:grpSpPr>
            <a:xfrm>
              <a:off x="1440" y="622440"/>
              <a:ext cx="9141120" cy="2493720"/>
              <a:chOff x="1440" y="622440"/>
              <a:chExt cx="9141120" cy="2493720"/>
            </a:xfrm>
          </p:grpSpPr>
          <p:sp>
            <p:nvSpPr>
              <p:cNvPr id="25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58"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259"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260"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9A142-FCDC-466D-B0E3-801AFBDF380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26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8320" cy="6851520"/>
            <a:chOff x="0" y="0"/>
            <a:chExt cx="9148320" cy="6851520"/>
          </a:xfrm>
        </p:grpSpPr>
        <p:sp>
          <p:nvSpPr>
            <p:cNvPr id="29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2" name=""/>
            <p:cNvGrpSpPr/>
            <p:nvPr/>
          </p:nvGrpSpPr>
          <p:grpSpPr>
            <a:xfrm>
              <a:off x="455400" y="0"/>
              <a:ext cx="8092440" cy="6851520"/>
              <a:chOff x="455400" y="0"/>
              <a:chExt cx="8092440" cy="6851520"/>
            </a:xfrm>
          </p:grpSpPr>
          <p:sp>
            <p:nvSpPr>
              <p:cNvPr id="30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1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27" name=""/>
            <p:cNvGrpSpPr/>
            <p:nvPr/>
          </p:nvGrpSpPr>
          <p:grpSpPr>
            <a:xfrm>
              <a:off x="0" y="622440"/>
              <a:ext cx="9140760" cy="2493720"/>
              <a:chOff x="0" y="622440"/>
              <a:chExt cx="9140760" cy="2493720"/>
            </a:xfrm>
          </p:grpSpPr>
          <p:sp>
            <p:nvSpPr>
              <p:cNvPr id="32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3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336"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37"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338"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160E6-C62C-4AA4-A5C5-BEEAF082E07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76"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1AD3-7164-4273-9C00-3FD44A7727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17"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9"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74C2E-64A6-4D2A-B6A3-9B19ACAA27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0"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57" name=""/>
          <p:cNvGrpSpPr/>
          <p:nvPr/>
        </p:nvGrpSpPr>
        <p:grpSpPr>
          <a:xfrm>
            <a:off x="0" y="0"/>
            <a:ext cx="9159840" cy="6858000"/>
            <a:chOff x="0" y="0"/>
            <a:chExt cx="9159840" cy="6858000"/>
          </a:xfrm>
        </p:grpSpPr>
        <p:sp>
          <p:nvSpPr>
            <p:cNvPr id="458"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9"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1"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3"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8"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4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82" name="PlaceHolder 4"/>
          <p:cNvSpPr>
            <a:spLocks noGrp="1"/>
          </p:cNvSpPr>
          <p:nvPr>
            <p:ph type="sldNum" idx="2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B7DA8-2177-4580-9C02-2D7333770F4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483" name="PlaceHolder 5"/>
          <p:cNvSpPr>
            <a:spLocks noGrp="1"/>
          </p:cNvSpPr>
          <p:nvPr>
            <p:ph type="dt" idx="27"/>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79.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oumanie</a:t>
            </a:r>
            <a:endParaRPr b="0" lang="en-US" sz="4400" spc="-1" strike="noStrike">
              <a:solidFill>
                <a:srgbClr val="ccecff"/>
              </a:solidFill>
              <a:latin typeface="Arial"/>
            </a:endParaRPr>
          </a:p>
        </p:txBody>
      </p:sp>
      <p:sp>
        <p:nvSpPr>
          <p:cNvPr id="794"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La Roumanie est située au sud-est du Europe. Voisins de la Roumanie sont la Bulgarie, la Moldavie, la Hongrie et la Serbie.Elle est une pays Carpato-Danubienne- Pontica.</a:t>
            </a:r>
            <a:endParaRPr b="0" lang="en-US" sz="2800" spc="-1" strike="noStrike">
              <a:solidFill>
                <a:srgbClr val="ffffff"/>
              </a:solidFill>
              <a:latin typeface="Verdana"/>
            </a:endParaRPr>
          </a:p>
        </p:txBody>
      </p:sp>
      <p:pic>
        <p:nvPicPr>
          <p:cNvPr id="795" name="" descr=""/>
          <p:cNvPicPr/>
          <p:nvPr/>
        </p:nvPicPr>
        <p:blipFill>
          <a:blip r:embed="rId1"/>
          <a:stretch/>
        </p:blipFill>
        <p:spPr>
          <a:xfrm>
            <a:off x="4648320" y="2432160"/>
            <a:ext cx="4038480" cy="2867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Musée de l'Histoire</a:t>
            </a:r>
            <a:endParaRPr b="0" lang="en-US" sz="4400" spc="-1" strike="noStrike">
              <a:solidFill>
                <a:srgbClr val="ccecff"/>
              </a:solidFill>
              <a:latin typeface="Arial"/>
            </a:endParaRPr>
          </a:p>
        </p:txBody>
      </p:sp>
      <p:pic>
        <p:nvPicPr>
          <p:cNvPr id="820" name="" descr=""/>
          <p:cNvPicPr/>
          <p:nvPr/>
        </p:nvPicPr>
        <p:blipFill>
          <a:blip r:embed="rId1"/>
          <a:stretch/>
        </p:blipFill>
        <p:spPr>
          <a:xfrm>
            <a:off x="1143000" y="1981080"/>
            <a:ext cx="6781680" cy="452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3e3ff"/>
                </a:solidFill>
                <a:latin typeface="Arial"/>
              </a:rPr>
              <a:t>Montagnes des Carpates</a:t>
            </a:r>
            <a:endParaRPr b="0" lang="en-US" sz="4400" spc="-1" strike="noStrike">
              <a:solidFill>
                <a:srgbClr val="e3e3ff"/>
              </a:solidFill>
              <a:latin typeface="Arial"/>
            </a:endParaRPr>
          </a:p>
        </p:txBody>
      </p:sp>
      <p:sp>
        <p:nvSpPr>
          <p:cNvPr id="797"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Carpates sont plus âgés Deux cent quatre millions annee. Ils atteignent une hauteur de </a:t>
            </a:r>
            <a:r>
              <a:rPr b="0" lang="en-US" sz="2800" spc="-1" strike="noStrike">
                <a:solidFill>
                  <a:srgbClr val="ffffff"/>
                </a:solidFill>
                <a:latin typeface="Arial"/>
              </a:rPr>
              <a:t>deux mille </a:t>
            </a:r>
            <a:r>
              <a:rPr b="0" lang="fr-FR" sz="2800" spc="-1" strike="noStrike">
                <a:solidFill>
                  <a:srgbClr val="ffffff"/>
                </a:solidFill>
                <a:latin typeface="Arial"/>
              </a:rPr>
              <a:t> cinq cent. Carpates sont une grande attraction touristique avec de nombreuses stations balnéaires.</a:t>
            </a:r>
            <a:endParaRPr b="0" lang="en-US" sz="2800" spc="-1" strike="noStrike">
              <a:solidFill>
                <a:srgbClr val="ffffff"/>
              </a:solidFill>
              <a:latin typeface="Arial"/>
            </a:endParaRPr>
          </a:p>
        </p:txBody>
      </p:sp>
      <p:pic>
        <p:nvPicPr>
          <p:cNvPr id="798" name="" descr=""/>
          <p:cNvPicPr/>
          <p:nvPr/>
        </p:nvPicPr>
        <p:blipFill>
          <a:blip r:embed="rId1"/>
          <a:stretch/>
        </p:blipFill>
        <p:spPr>
          <a:xfrm>
            <a:off x="4648320" y="1905120"/>
            <a:ext cx="4267080" cy="3200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lta du Danube</a:t>
            </a:r>
            <a:endParaRPr b="1" lang="en-US" sz="4400" spc="-1" strike="noStrike">
              <a:solidFill>
                <a:srgbClr val="e5e5ff"/>
              </a:solidFill>
              <a:latin typeface="Garamond"/>
            </a:endParaRPr>
          </a:p>
        </p:txBody>
      </p:sp>
      <p:sp>
        <p:nvSpPr>
          <p:cNvPr id="8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fontScale="91000"/>
          </a:bodyPr>
          <a:p>
            <a:pPr marL="312120" indent="-31212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elta du Danube est plus grande delta de Europe.</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fr-FR" sz="2800" spc="-1" strike="noStrike">
                <a:solidFill>
                  <a:srgbClr val="ffffff"/>
                </a:solidFill>
                <a:latin typeface="Garamond"/>
              </a:rPr>
              <a:t>C'est une faune et une flore impressionnantes.</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Garamond"/>
              </a:rPr>
              <a:t>    </a:t>
            </a:r>
            <a:r>
              <a:rPr b="0" lang="fr-FR" sz="2800" spc="-1" strike="noStrike">
                <a:solidFill>
                  <a:srgbClr val="ffffff"/>
                </a:solidFill>
                <a:latin typeface="Garamond"/>
              </a:rPr>
              <a:t>Danube se jette dans la mer Noire par les trois branches: Chilia, Sulina et Saint Gheorghe.</a:t>
            </a:r>
            <a:endParaRPr b="0" lang="en-US" sz="2800" spc="-1" strike="noStrike">
              <a:solidFill>
                <a:srgbClr val="ffffff"/>
              </a:solidFill>
              <a:latin typeface="Garamond"/>
            </a:endParaRPr>
          </a:p>
        </p:txBody>
      </p:sp>
      <p:pic>
        <p:nvPicPr>
          <p:cNvPr id="801" name="" descr=""/>
          <p:cNvPicPr/>
          <p:nvPr/>
        </p:nvPicPr>
        <p:blipFill>
          <a:blip r:embed="rId1"/>
          <a:stretch/>
        </p:blipFill>
        <p:spPr>
          <a:xfrm>
            <a:off x="685800" y="1393920"/>
            <a:ext cx="3429000" cy="2400120"/>
          </a:xfrm>
          <a:prstGeom prst="rect">
            <a:avLst/>
          </a:prstGeom>
          <a:ln w="0">
            <a:noFill/>
          </a:ln>
        </p:spPr>
      </p:pic>
      <p:pic>
        <p:nvPicPr>
          <p:cNvPr id="802" name="" descr=""/>
          <p:cNvPicPr/>
          <p:nvPr/>
        </p:nvPicPr>
        <p:blipFill>
          <a:blip r:embed="rId2"/>
          <a:stretch/>
        </p:blipFill>
        <p:spPr>
          <a:xfrm>
            <a:off x="685800" y="3938760"/>
            <a:ext cx="3425760" cy="2290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er Noire</a:t>
            </a:r>
            <a:endParaRPr b="0" lang="en-US" sz="4400" spc="-1" strike="noStrike">
              <a:solidFill>
                <a:srgbClr val="ffffff"/>
              </a:solidFill>
              <a:latin typeface="Tahoma"/>
            </a:endParaRPr>
          </a:p>
        </p:txBody>
      </p:sp>
      <p:sp>
        <p:nvSpPr>
          <p:cNvPr id="804" name="PlaceHolder 2"/>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Dans le Sud-Est est de la Roumanie est ouvert à le Mer Noir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fr-FR" sz="2800" spc="-1" strike="noStrike">
                <a:solidFill>
                  <a:srgbClr val="ffffff"/>
                </a:solidFill>
                <a:latin typeface="Tahoma"/>
              </a:rPr>
              <a:t>Il relie l'Europe et l'Asie. La mer Noire est le perle de tourisme roumain.</a:t>
            </a:r>
            <a:endParaRPr b="0" lang="en-US" sz="2800" spc="-1" strike="noStrike">
              <a:solidFill>
                <a:srgbClr val="ffffff"/>
              </a:solidFill>
              <a:latin typeface="Tahoma"/>
            </a:endParaRPr>
          </a:p>
        </p:txBody>
      </p:sp>
      <p:pic>
        <p:nvPicPr>
          <p:cNvPr id="805" name="" descr=""/>
          <p:cNvPicPr/>
          <p:nvPr/>
        </p:nvPicPr>
        <p:blipFill>
          <a:blip r:embed="rId2"/>
          <a:stretch/>
        </p:blipFill>
        <p:spPr>
          <a:xfrm>
            <a:off x="1143000" y="1676520"/>
            <a:ext cx="2895480" cy="2170080"/>
          </a:xfrm>
          <a:prstGeom prst="rect">
            <a:avLst/>
          </a:prstGeom>
          <a:ln w="0">
            <a:noFill/>
          </a:ln>
        </p:spPr>
      </p:pic>
      <p:pic>
        <p:nvPicPr>
          <p:cNvPr id="806" name="" descr=""/>
          <p:cNvPicPr/>
          <p:nvPr/>
        </p:nvPicPr>
        <p:blipFill>
          <a:blip r:embed="rId3"/>
          <a:stretch/>
        </p:blipFill>
        <p:spPr>
          <a:xfrm>
            <a:off x="1143000" y="3962520"/>
            <a:ext cx="2895480" cy="217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Dracula</a:t>
            </a:r>
            <a:endParaRPr b="0" lang="en-US" sz="4200" spc="-1" strike="noStrike">
              <a:solidFill>
                <a:srgbClr val="ffffcc"/>
              </a:solidFill>
              <a:latin typeface="Tahoma"/>
            </a:endParaRPr>
          </a:p>
        </p:txBody>
      </p:sp>
      <p:sp>
        <p:nvSpPr>
          <p:cNvPr id="8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ahoma"/>
              </a:rPr>
              <a:t>La marque la plus célèbre de la Roumanie est le Conte Dracula. Il était le prince de Transylvanie. Dracula était un jugement cette criminels punissant de mort. Il dit aussi que c'est un vampire.</a:t>
            </a:r>
            <a:endParaRPr b="0" lang="en-US" sz="2800" spc="-1" strike="noStrike">
              <a:solidFill>
                <a:srgbClr val="ffffff"/>
              </a:solidFill>
              <a:latin typeface="Tahoma"/>
            </a:endParaRPr>
          </a:p>
        </p:txBody>
      </p:sp>
      <p:pic>
        <p:nvPicPr>
          <p:cNvPr id="809" name="" descr=""/>
          <p:cNvPicPr/>
          <p:nvPr/>
        </p:nvPicPr>
        <p:blipFill>
          <a:blip r:embed="rId1"/>
          <a:stretch/>
        </p:blipFill>
        <p:spPr>
          <a:xfrm>
            <a:off x="4800600" y="2057400"/>
            <a:ext cx="3809880" cy="347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Bucarest</a:t>
            </a:r>
            <a:endParaRPr b="0" lang="en-US" sz="4400" spc="-1" strike="noStrike">
              <a:solidFill>
                <a:srgbClr val="ccecff"/>
              </a:solidFill>
              <a:latin typeface="Arial"/>
            </a:endParaRPr>
          </a:p>
        </p:txBody>
      </p:sp>
      <p:sp>
        <p:nvSpPr>
          <p:cNvPr id="811" name="PlaceHolder 2"/>
          <p:cNvSpPr>
            <a:spLocks noGrp="1"/>
          </p:cNvSpPr>
          <p:nvPr>
            <p:ph/>
          </p:nvPr>
        </p:nvSpPr>
        <p:spPr>
          <a:xfrm>
            <a:off x="455760" y="1598760"/>
            <a:ext cx="403848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aeaea"/>
                </a:solidFill>
                <a:latin typeface="Arial"/>
              </a:rPr>
              <a:t>Capitale de la Roumanie est Bucarest </a:t>
            </a:r>
            <a:r>
              <a:rPr b="0" lang="en-US" sz="2800" spc="-1" strike="noStrike">
                <a:solidFill>
                  <a:srgbClr val="eaeaea"/>
                </a:solidFill>
                <a:latin typeface="Arial"/>
              </a:rPr>
              <a:t>est appelé  le “Petit Paris”. </a:t>
            </a:r>
            <a:r>
              <a:rPr b="0" lang="fr-FR" sz="2800" spc="-1" strike="noStrike">
                <a:solidFill>
                  <a:srgbClr val="eaeaea"/>
                </a:solidFill>
                <a:latin typeface="Arial"/>
              </a:rPr>
              <a:t>Bucarest a de nombreux parcs,muzee et monuments historiques tels que:</a:t>
            </a:r>
            <a:r>
              <a:rPr b="0" lang="en-US" sz="2800" spc="-1" strike="noStrike">
                <a:solidFill>
                  <a:srgbClr val="eaeaea"/>
                </a:solidFill>
                <a:latin typeface="Arial"/>
              </a:rPr>
              <a:t> </a:t>
            </a:r>
            <a:endParaRPr b="0" lang="en-US" sz="2800" spc="-1" strike="noStrike">
              <a:solidFill>
                <a:srgbClr val="eaeaea"/>
              </a:solidFill>
              <a:latin typeface="Arial"/>
            </a:endParaRPr>
          </a:p>
        </p:txBody>
      </p:sp>
      <p:pic>
        <p:nvPicPr>
          <p:cNvPr id="812" name="" descr=""/>
          <p:cNvPicPr/>
          <p:nvPr/>
        </p:nvPicPr>
        <p:blipFill>
          <a:blip r:embed="rId1"/>
          <a:stretch/>
        </p:blipFill>
        <p:spPr>
          <a:xfrm>
            <a:off x="4862520" y="1979640"/>
            <a:ext cx="3781440" cy="39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ecff"/>
                </a:solidFill>
                <a:latin typeface="Arial"/>
              </a:rPr>
              <a:t>Athenaeum</a:t>
            </a:r>
            <a:endParaRPr b="0" lang="en-US" sz="4400" spc="-1" strike="noStrike">
              <a:solidFill>
                <a:srgbClr val="ccecff"/>
              </a:solidFill>
              <a:latin typeface="Arial"/>
            </a:endParaRPr>
          </a:p>
        </p:txBody>
      </p:sp>
      <p:pic>
        <p:nvPicPr>
          <p:cNvPr id="814" name="" descr=""/>
          <p:cNvPicPr/>
          <p:nvPr/>
        </p:nvPicPr>
        <p:blipFill>
          <a:blip r:embed="rId1"/>
          <a:stretch/>
        </p:blipFill>
        <p:spPr>
          <a:xfrm>
            <a:off x="1828800" y="1600200"/>
            <a:ext cx="5334120" cy="400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alais Parlament</a:t>
            </a:r>
            <a:endParaRPr b="0" lang="en-US" sz="4400" spc="-1" strike="noStrike">
              <a:solidFill>
                <a:srgbClr val="ccecff"/>
              </a:solidFill>
              <a:latin typeface="Arial"/>
            </a:endParaRPr>
          </a:p>
        </p:txBody>
      </p:sp>
      <p:pic>
        <p:nvPicPr>
          <p:cNvPr id="816" name="" descr=""/>
          <p:cNvPicPr/>
          <p:nvPr/>
        </p:nvPicPr>
        <p:blipFill>
          <a:blip r:embed="rId1"/>
          <a:stretch/>
        </p:blipFill>
        <p:spPr>
          <a:xfrm>
            <a:off x="1600200" y="1884240"/>
            <a:ext cx="5943600" cy="3962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rc du Triomphe</a:t>
            </a:r>
            <a:endParaRPr b="0" lang="en-US" sz="4400" spc="-1" strike="noStrike">
              <a:solidFill>
                <a:srgbClr val="ccecff"/>
              </a:solidFill>
              <a:latin typeface="Arial"/>
            </a:endParaRPr>
          </a:p>
        </p:txBody>
      </p:sp>
      <p:pic>
        <p:nvPicPr>
          <p:cNvPr id="818" name="" descr=""/>
          <p:cNvPicPr/>
          <p:nvPr/>
        </p:nvPicPr>
        <p:blipFill>
          <a:blip r:embed="rId1"/>
          <a:stretch/>
        </p:blipFill>
        <p:spPr>
          <a:xfrm>
            <a:off x="2438280" y="1600200"/>
            <a:ext cx="4226040" cy="487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GIGI</cp:lastModifiedBy>
  <dcterms:modified xsi:type="dcterms:W3CDTF">2012-05-07T19:24:16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